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AFE-445E-4B4B-B9DC-C5AE61E3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F17-B610-4D73-A0F3-ADFB1B0D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584-AD4F-4AE3-8352-AEE9A26A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345-6888-4B60-A8AC-71902488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0A6D-8112-458D-8EF1-2EA07713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1D0F-FBA6-4526-9FCA-69B221D1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E343-898F-40E6-813D-3C656A3E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22E1-B1A0-4513-ABFA-3C365AA0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FBA5-7FD8-43BB-9644-A361D157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DEE8-FAE3-4CEC-8424-1B30DC35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1068-CEDE-4811-9CBD-4E1DAC99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A1A-03F2-42B5-9AAD-D8DDCA6F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22A6-B4AF-4A5D-BC31-51815542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44A1-C9FF-4361-8913-23BA767E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62D2-8CE1-417A-B0EF-F6080ED9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588E-E502-47B2-9FD2-618007F7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6900-3B2B-45FE-99AB-9A8A9A89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982-F3E8-4F20-B7A0-16265223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9D7-8510-4FD0-9727-0CA78BD7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BA8-856F-4607-A5FC-31BD11F5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31A-C8F3-4C90-9491-E9A8BD4A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D6D-F01A-4DCF-B967-E2A45B99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460-8BBD-41F4-8D70-0FE7CAA2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6BD-402E-44FC-9655-F46AC8D7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0316-E301-4432-84CF-C151B4B844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6D5D-117C-4254-A891-2A65438BEB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4/Pieter_Bruegel_d._&#196;._10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tionalgallery.org.uk/cgi-bin/WebObjects.dll/CollectionPublisher.woa/wa/zoomImage?workNumber=NG186&amp;collectionSection=work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ff"/>
                </a:solidFill>
                <a:latin typeface="Arial"/>
              </a:rPr>
              <a:t>The European Renaissance</a:t>
            </a:r>
            <a:endParaRPr b="0" lang="en-US" sz="6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naissance in the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r. Paglia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ymour High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ff"/>
                </a:solidFill>
                <a:latin typeface="Arial"/>
              </a:rPr>
              <a:t>Jan van Eyck</a:t>
            </a:r>
            <a:r>
              <a:rPr b="0" i="1" lang="en-US" sz="4200" spc="-1" strike="noStrike">
                <a:solidFill>
                  <a:srgbClr val="99ccff"/>
                </a:solidFill>
                <a:latin typeface="Arial"/>
              </a:rPr>
              <a:t> - Giovanni Arnolfini &amp; His Wife</a:t>
            </a:r>
            <a:r>
              <a:rPr b="0" lang="en-US" sz="4200" spc="-1" strike="noStrike">
                <a:solidFill>
                  <a:srgbClr val="99ccff"/>
                </a:solidFill>
                <a:latin typeface="Arial"/>
              </a:rPr>
              <a:t> </a:t>
            </a:r>
            <a:br>
              <a:rPr sz="4200"/>
            </a:br>
            <a:r>
              <a:rPr b="0" lang="en-US" sz="4200" spc="-1" strike="noStrike">
                <a:solidFill>
                  <a:srgbClr val="99ccff"/>
                </a:solidFill>
                <a:latin typeface="Arial"/>
              </a:rPr>
              <a:t>(details)</a:t>
            </a:r>
            <a:endParaRPr b="0" lang="en-US" sz="4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914400"/>
            <a:ext cx="4307040" cy="59436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99ccff"/>
                </a:solidFill>
                <a:latin typeface="Arial"/>
              </a:rPr>
              <a:t>Quentin Massys’ </a:t>
            </a:r>
            <a:br>
              <a:rPr sz="3900"/>
            </a:br>
            <a:r>
              <a:rPr b="0" i="1" lang="en-US" sz="3900" spc="-1" strike="noStrike">
                <a:solidFill>
                  <a:srgbClr val="99ccff"/>
                </a:solidFill>
                <a:latin typeface="Arial"/>
              </a:rPr>
              <a:t>The Moneylender &amp; His Wife</a:t>
            </a:r>
            <a:r>
              <a:rPr b="0" lang="en-US" sz="3900" spc="-1" strike="noStrike">
                <a:solidFill>
                  <a:srgbClr val="99ccff"/>
                </a:solidFill>
                <a:latin typeface="Arial"/>
              </a:rPr>
              <a:t>, 1514</a:t>
            </a:r>
            <a:endParaRPr b="0" lang="en-US" sz="39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1190520"/>
            <a:ext cx="6019560" cy="56674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343400" y="5638680"/>
            <a:ext cx="1219320" cy="1067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5229360"/>
            <a:ext cx="2114640" cy="1247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17560" y="419040"/>
            <a:ext cx="7508880" cy="5622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17560" y="488880"/>
            <a:ext cx="7435800" cy="563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Albrecht D</a:t>
            </a:r>
            <a:r>
              <a:rPr b="0" lang="en-US" sz="4000" spc="-1" strike="noStrike">
                <a:solidFill>
                  <a:srgbClr val="99ccff"/>
                </a:solidFill>
                <a:latin typeface="Arial"/>
                <a:ea typeface="Arial"/>
              </a:rPr>
              <a:t>ürer</a:t>
            </a:r>
            <a:br>
              <a:rPr sz="4000"/>
            </a:br>
            <a:r>
              <a:rPr b="0" lang="en-US" sz="4000" spc="-1" strike="noStrike">
                <a:solidFill>
                  <a:srgbClr val="99ccff"/>
                </a:solidFill>
                <a:latin typeface="Arial"/>
                <a:ea typeface="Arial"/>
              </a:rPr>
              <a:t>Self Portrait, 1498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797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Pieter Bruegel,</a:t>
            </a:r>
            <a:br>
              <a:rPr sz="3600"/>
            </a:b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Winter Landscape with Bird Trap (1565)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37" name="" descr="File:Pieter Bruegel d. Ä. 1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417680"/>
            <a:ext cx="86868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Reading Strategy: Identifying main ideas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track of the main ideas of this section (pg. 480-485) by creating a chart like the one below.  Add several details per topic to complete the ch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4394160"/>
            <a:ext cx="9143640" cy="1832040"/>
            <a:chOff x="0" y="4394160"/>
            <a:chExt cx="9143640" cy="1832040"/>
          </a:xfrm>
        </p:grpSpPr>
        <p:cxnSp>
          <p:nvCxnSpPr>
            <p:cNvPr id="141" name="_s27668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1778760" y="5255280"/>
              <a:ext cx="229320" cy="797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27666"/>
            <p:cNvCxnSpPr>
              <a:stCxn id="145" idx="0"/>
              <a:endCxn id="143" idx="2"/>
            </p:cNvCxnSpPr>
            <p:nvPr/>
          </p:nvCxnSpPr>
          <p:spPr>
            <a:xfrm flipH="1" flipV="1" rot="5400000">
              <a:off x="981360" y="5254920"/>
              <a:ext cx="229320" cy="79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27664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6240600" y="3185280"/>
              <a:ext cx="229320" cy="3566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27662"/>
            <p:cNvCxnSpPr>
              <a:stCxn id="150" idx="0"/>
              <a:endCxn id="148" idx="2"/>
            </p:cNvCxnSpPr>
            <p:nvPr/>
          </p:nvCxnSpPr>
          <p:spPr>
            <a:xfrm flipV="1" rot="16200000">
              <a:off x="5133600" y="4292280"/>
              <a:ext cx="229320" cy="135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27661"/>
            <p:cNvCxnSpPr>
              <a:stCxn id="152" idx="0"/>
              <a:endCxn id="148" idx="2"/>
            </p:cNvCxnSpPr>
            <p:nvPr/>
          </p:nvCxnSpPr>
          <p:spPr>
            <a:xfrm flipH="1" flipV="1" rot="5400000">
              <a:off x="4026960" y="4537440"/>
              <a:ext cx="229320" cy="862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27660"/>
            <p:cNvCxnSpPr>
              <a:stCxn id="143" idx="0"/>
              <a:endCxn id="148" idx="2"/>
            </p:cNvCxnSpPr>
            <p:nvPr/>
          </p:nvCxnSpPr>
          <p:spPr>
            <a:xfrm flipH="1" flipV="1" rot="5400000">
              <a:off x="2919240" y="3429720"/>
              <a:ext cx="229320" cy="3078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8" name="_s27656"/>
            <p:cNvSpPr/>
            <p:nvPr/>
          </p:nvSpPr>
          <p:spPr>
            <a:xfrm>
              <a:off x="2719440" y="4394160"/>
              <a:ext cx="3704760" cy="460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Northern Renaissance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27657"/>
            <p:cNvSpPr/>
            <p:nvPr/>
          </p:nvSpPr>
          <p:spPr>
            <a:xfrm>
              <a:off x="489960" y="5083200"/>
              <a:ext cx="201204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rtis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27658"/>
            <p:cNvSpPr/>
            <p:nvPr/>
          </p:nvSpPr>
          <p:spPr>
            <a:xfrm>
              <a:off x="2703960" y="5083200"/>
              <a:ext cx="201168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umanis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27659"/>
            <p:cNvSpPr/>
            <p:nvPr/>
          </p:nvSpPr>
          <p:spPr>
            <a:xfrm>
              <a:off x="4917960" y="5083200"/>
              <a:ext cx="201168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rite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27663"/>
            <p:cNvSpPr/>
            <p:nvPr/>
          </p:nvSpPr>
          <p:spPr>
            <a:xfrm>
              <a:off x="7131960" y="5083200"/>
              <a:ext cx="201168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inting Revolu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27665"/>
            <p:cNvSpPr/>
            <p:nvPr/>
          </p:nvSpPr>
          <p:spPr>
            <a:xfrm>
              <a:off x="0" y="5769000"/>
              <a:ext cx="139392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rm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27667"/>
            <p:cNvSpPr/>
            <p:nvPr/>
          </p:nvSpPr>
          <p:spPr>
            <a:xfrm>
              <a:off x="1596240" y="5769000"/>
              <a:ext cx="139392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lemis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rt: German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gious/Classical my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sca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odcuts &amp; Engrav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brecht 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ü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ns Holbein the You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graphic detail in portra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rt: Flemish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sants sc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scapes + People = Full sc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il pain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 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 van Ey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eter Brueg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hristian Humanism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orm 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the chu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ianity of the Hear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s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Praise of Fo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atire of merchants, scholars, lovers, and pompous priests…Arrogant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mas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top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A land without greed, corruption, or w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held Christian val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Key Idea…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INTER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s of the Italian Renaissance spread to Northern Europe in the 140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Writers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espe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ist values in p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ulius Caesar, Antony &amp; Cleopat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ichard I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historical plays-History is a HUMA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omeo &amp; Juliet, The Taming of the Shrew, The Merchant of Ve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ll focus on the lives of merchan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The Printing Revolution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Key Vocabulary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op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ian Human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able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 pa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il pa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brecht 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ü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landers/Flem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n van Ey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ieter Bruegel (the eld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derius Eras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omas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lliam Shakespe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themes that northern European artists, humanists, and writers explo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the printing revolution shaped European 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Where was the “Northern” Renaissance happening?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1600" y="1230480"/>
            <a:ext cx="6934320" cy="56275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9" name=""/>
          <p:cNvGrpSpPr/>
          <p:nvPr/>
        </p:nvGrpSpPr>
        <p:grpSpPr>
          <a:xfrm>
            <a:off x="-228600" y="3047760"/>
            <a:ext cx="9372600" cy="1447560"/>
            <a:chOff x="-228600" y="3047760"/>
            <a:chExt cx="9372600" cy="1447560"/>
          </a:xfrm>
        </p:grpSpPr>
        <p:sp>
          <p:nvSpPr>
            <p:cNvPr id="110" name=""/>
            <p:cNvSpPr/>
            <p:nvPr/>
          </p:nvSpPr>
          <p:spPr>
            <a:xfrm flipV="1">
              <a:off x="0" y="4419360"/>
              <a:ext cx="9144000" cy="75960"/>
            </a:xfrm>
            <a:prstGeom prst="line">
              <a:avLst/>
            </a:prstGeom>
            <a:ln cap="rnd" w="7632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-228600" y="3047760"/>
              <a:ext cx="9372600" cy="75960"/>
            </a:xfrm>
            <a:prstGeom prst="line">
              <a:avLst/>
            </a:prstGeom>
            <a:ln cap="rnd" w="7632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895480" y="1219320"/>
            <a:ext cx="2743200" cy="5943600"/>
            <a:chOff x="2895480" y="1219320"/>
            <a:chExt cx="2743200" cy="5943600"/>
          </a:xfrm>
        </p:grpSpPr>
        <p:sp>
          <p:nvSpPr>
            <p:cNvPr id="113" name=""/>
            <p:cNvSpPr/>
            <p:nvPr/>
          </p:nvSpPr>
          <p:spPr>
            <a:xfrm>
              <a:off x="2895480" y="1219320"/>
              <a:ext cx="0" cy="5943600"/>
            </a:xfrm>
            <a:prstGeom prst="line">
              <a:avLst/>
            </a:prstGeom>
            <a:ln cap="rnd" w="7632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38680" y="1219320"/>
              <a:ext cx="0" cy="5790960"/>
            </a:xfrm>
            <a:prstGeom prst="line">
              <a:avLst/>
            </a:prstGeom>
            <a:ln cap="rnd" w="7632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52480" y="2286000"/>
            <a:ext cx="59436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omparing Renaissance Ar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y: hum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Europe: Christian values, church re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on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y: merch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Europe: roy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haracteristics of Northern Renaissance Ar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39116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tion to detai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realism &amp; natural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ide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on middle-class/peasant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of domestic interi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skill in portra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Jan van Eyck (1395 – 1441)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800" y="167652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urtly and aristocratic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rt painter to the Duke of Burgundy, Philip the Goo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Virgin and Chancellor Rol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1435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28600" y="1447920"/>
            <a:ext cx="4906800" cy="54100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486400" y="228600"/>
            <a:ext cx="335268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Arial"/>
              </a:rPr>
              <a:t>Giovanni Arnolfini and His Wife</a:t>
            </a:r>
            <a:br>
              <a:rPr sz="4000"/>
            </a:br>
            <a:br>
              <a:rPr sz="1400"/>
            </a:br>
            <a:r>
              <a:rPr b="1" lang="en-US" sz="3400" spc="-1" strike="noStrike">
                <a:solidFill>
                  <a:srgbClr val="99ccff"/>
                </a:solidFill>
                <a:latin typeface="Arial"/>
              </a:rPr>
              <a:t>(Wedding Portrait)</a:t>
            </a:r>
            <a:br>
              <a:rPr sz="3400"/>
            </a:br>
            <a:r>
              <a:rPr b="1" i="1" lang="en-US" sz="4000" spc="-1" strike="noStrike">
                <a:solidFill>
                  <a:srgbClr val="99cc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Arial"/>
              </a:rPr>
              <a:t>Jan Van Eyck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Arial"/>
              </a:rPr>
              <a:t>143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'Portrait of Giovanni (?) Arnolfini and his Wife ('The Arnolfini Portrait')'">
            <a:hlinkClick r:id="rId1"/>
          </p:cNvPr>
          <p:cNvPicPr/>
          <p:nvPr/>
        </p:nvPicPr>
        <p:blipFill>
          <a:blip r:embed="rId2"/>
          <a:srcRect l="0" t="0" r="0" b="4000"/>
          <a:stretch/>
        </p:blipFill>
        <p:spPr>
          <a:xfrm>
            <a:off x="471600" y="228600"/>
            <a:ext cx="4633920" cy="6324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09680" y="1523880"/>
            <a:ext cx="1219320" cy="121932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23:20:43Z</dcterms:created>
  <dc:creator>Chris</dc:creator>
  <dc:description/>
  <dc:language>en-US</dc:language>
  <cp:lastModifiedBy>cpagliaro</cp:lastModifiedBy>
  <dcterms:modified xsi:type="dcterms:W3CDTF">2009-05-12T17:28:57Z</dcterms:modified>
  <cp:revision>6</cp:revision>
  <dc:subject/>
  <dc:title>The European Renaissance</dc:title>
</cp:coreProperties>
</file>